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213-0B53-44A2-92DD-F70820E5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53E-1D2D-4399-88C8-4A808705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7DF-18CF-4E9E-BFF7-B61AB64C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EAE-4FBA-4E64-8156-D4463CFD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9DF-BC31-44C0-A659-CCA89700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5FF-02F4-4289-A8E8-20250C44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ED8-59B7-4F88-9B6B-BD1AB2C9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6CF-7BCE-491A-BE25-087DAAF9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8AD-300B-49EB-99E2-A384E2CC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57A-8B78-403E-946F-82A9D139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8DE-D8BD-4200-9746-6CDB0E48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000-9AA4-43E9-BFDD-67D64516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91F5-8BFA-4EE3-9A59-6CAF440F1F2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The Rural-Urban Frin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Fri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ral-Urban fri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name given to the land at the edge of an urban area, where there is often a huge mixture of land 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science parks, business parks and industrial estates locate in the rural-urban fringe as the land is cheaper, there is room for expansion and they are closer to transport links to allow export and import of go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Fri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orways and by-passes, such as the M25 and the Newbury by-pass have been built on the rural-urban fringe, much to the disgust of environmental groups who feel that the area should be kept as green a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reational land-uses such as golf courses and leisure parks have been established in the rural-urban fri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using has also encroached into the rural-urban fringe, and small villages have grown as more people move out of the cities and commute to 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Fri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-of-town shopping centres also find that the space available, good transport connections and cheap land encourage them to establish in the rural-urban fri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ing still occurs in the rural-urban fringe, although the farmers often come under great pressure to sell their land for develop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armer will make far more money from a sale if there is already planning permission for building to occur on the 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3:08:12Z</dcterms:created>
  <dc:creator>Dell_02</dc:creator>
  <dc:description/>
  <dc:language>en-US</dc:language>
  <cp:lastModifiedBy>Dell_02</cp:lastModifiedBy>
  <dcterms:modified xsi:type="dcterms:W3CDTF">2011-01-26T03:13:30Z</dcterms:modified>
  <cp:revision>1</cp:revision>
  <dc:subject/>
  <dc:title>The Rural-Urban Fringe</dc:title>
</cp:coreProperties>
</file>